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959-DBBC-4C11-A318-B3BE26AEB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A0D0-892C-4136-A890-CBC165DF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E80-EF7D-4630-A87E-57C4EFFB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91EB-FBFC-40D4-9225-CE2A7DF8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5E7-0216-4BF0-B0EF-CFDB2B60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AFB-1247-4187-944D-F6B3529D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A55-0A2F-4548-835A-22958ACA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6DB7-825C-4251-B57A-8DE56CC0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C81-F821-4B1D-897A-7F16A600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C9B3-3337-4507-BFDA-00CB2792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0418-014C-4DF8-A4CD-D2B5B739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FB47-AFB9-4B88-BA7F-65655B2C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9FE0-81F4-4156-AAAB-3D7B846EF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спериментална епидем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тички аспекти експери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хуманој популацији изводити експерименте за које се сматра да су без штетних утиц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ци морају бити информисани о циљевима експеримента и последицама, после чега дају сагласност о учешћу у студ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 бити сп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а која дефинишу регулативе у испитивањима која обухватају хуману популацију: 1964.год. Хелсиншка декла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траживач прекида истраживање када утврди да може имати последице за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тички комитети при научним установама надлежни за примену етичких принципа у истражив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тички аспекти експери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дност: пружају најјаче доказе о постојању односа узрок-после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достаци: ограничена изводљивост, спорна етичност, отежано генерализовање резултата, проблем одзива и осипања, захтевају велики број истраживача и велика материјална 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линички е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ренски е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ксперимент у друштвеној заједни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кспериментал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вијају се под контролом истраживача који одређује експерименталне усл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раживач интервенише  (методом, леком, вакцино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 основу добијених резултата располаже одговором на питања која су у вези са испитиваним пробле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узајнирање експерименталних студ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ланирањ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 испита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 Величина уз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 Рандом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на исхода и отклањање исхода у процесу ис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разумева ПРОТОКОЛ који садржи: циљеве еклсперимента, критеријуме за одабир испитаника, шему рандомизације, поступке који ће се у експерименту спроводити, начину примене испитиваних средстава, методе за прикупљање и анализу података, исходи експеримента, регистровање ефеката испитивања, поступци за добијање сагласности испита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ланирање експерименталне студ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бор испита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финисати које ће карактеристике испитиване популације бити узете као критеријуми за укључивање у студ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ци треба да се слажу у односу на што већи број карактеристика од значаја за исход испитивања (пол, узраст, степен претходне изложености, тежина болести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еличина узо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рој испитаника који је неопходан за откривање ефеката испитиваног лека или процед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рачунава се статистичким поступ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ндомиз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зврставање испитаника у експерименталну и контролну групу методом случајног из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ваки испитаник има подједнаку шансу да буде разврстан у експерименталну и контролну груп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роцена исхода у експерименталним студиј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к сам уочава ефекте испитиване процед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траживач региструје промене статуса испи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ПРОЦЕНА ИСХОДА ЕКСПЕРИМЕ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Индивидуална проц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едноструко слепа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Двоструко слепа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Троструко слепа тех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1T08:13:41Z</dcterms:created>
  <dc:creator> </dc:creator>
  <dc:description/>
  <dc:language>en-US</dc:language>
  <cp:lastModifiedBy> </cp:lastModifiedBy>
  <dcterms:modified xsi:type="dcterms:W3CDTF">2017-01-09T11:49:16Z</dcterms:modified>
  <cp:revision>11</cp:revision>
  <dc:subject/>
  <dc:title>Slide 1</dc:title>
</cp:coreProperties>
</file>