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F5F1-AEF1-442B-91B9-7F0C08DD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F94-D7F6-4AEC-A138-DF811AC1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B45-90EF-4D12-9E13-B2765B428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BDE3-7A79-48A1-8725-0FE0B243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85E3-31E5-489E-A13A-3EE36A1C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9383-5EC6-452B-ACAD-B8839312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E9A-FEAA-4800-A4B6-7F2AF294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CC5-07E2-4494-B43F-9C2FED4A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31D-C606-4C16-A377-1DB43E4A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08D-E124-41DB-8171-3FE2ECD1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438-DF88-4D5A-8805-6673097E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500-2E6A-47CD-8C12-A9C9EDE5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33E9-04A5-4134-BAE0-8727471C0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тички метод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229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болесника који ће бити обухваћени студиј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асно дефинисани критеријуми на којима се заснива дијагноза (у сваког оболелог од малигног тумора дијагноза хистопатолошки потврђе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рупу оболелих чине сви болесници или њихов случајно одабран узорак из дефинисане попул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удију ограничити само на новооболе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20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контролне групе која ће бити обухваћена студиј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0755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аници из контролне групе треба да буду подударни са групом оболелих у односу на основне варијабле (пол, узра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пулација из које се регрутују припадници контролне груп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ацијенти из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исте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дравствене установе одакле је изабрана група оболел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собе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ван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дравствене установе одакле је изабрана група оболел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арна подела испитаника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е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изложене утицају чиниоца за кога се претпоставља да доводи до настанка неког поремећај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Шта се посматра у  групи изложених и неизложени утицају чиниоца за кога се претпоставља да доводи до настанка неког поремећаја здрављ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којој је од две групе инциденција ве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зи се од претпостављеног узрока и посматра његова евентуална улога у оболевањ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Фазе извођења кохортне студије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ор кохо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безбеђење информација о изложености и подела на изложене и неизложене аген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аћење учесталости оболевања у испитиваним групама и утврђивање пропорције оболелих у групи изложених и неизложених дејству аген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 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годност идентификације чланова: У кохорти од више хиљада британских лекара испитиван утицај пушења на појаву рака пл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 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3628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ебна изложенос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Особе које су професионално или стицајем околности биле изложене дејству агенса (штетан ефекат инсектицида међу радницима ангажованим на запрашивањ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Изучавање оболевања и умирања међу становницима Хирошиме (Чернобиља) после експлозије атомске бомбе (хаварије нуклеар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тички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стира хипотезу о фактору одговорном за настанак одређеног поремећаја здрав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довезује се на дескриптивну методу, лабораторијска или клиничка запаж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ује повезаност између претпостављеног узрока и очекиване послед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 обзира на начин избора кохорте , детаљним прегледом елиминисати особе већ оболеле од болести која је предмет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драви припадници кохорте прате се током периода који се изражава годин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КОХОРТНЕ</a:t>
            </a:r>
            <a:r>
              <a:rPr b="1" lang="sr-C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опа инциденције (морталитета) изложених лица  упоређује се са одговарајућом стопом међу особама које нису изложене аген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збор група испитаника и њихово пра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ада се примењује аналитички метод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ује болести непознате етиоло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мењује се када су узрочници познати а циљ је да се утврди начин на који је агенс доспео до осетљивих ос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литички мет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зи од појединаца који чине одговарајуће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Циљаним епидемиолошким упитником обезбеђујемо информације о искуству испитаника у односу на одређени фак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итивање повезаности између претпостављеног узрока и очекиване последице доводи до поделе испитаника у четири груп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и обол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ложени здра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изложени обол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изложени здра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ушење и инфаркт миокар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87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арк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г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3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ШЕ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+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+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+б+ц+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ључно питање у аналитичкој метод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 ли је изложеност неком чиниоцу повезана са појавом боле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ва основна приступ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хортне студ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лази од последице тј.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дентификују се фактори који су удружени с појавом болести, односно који су јој претход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амнестичке студ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тупак обухва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бор групе оболелих и одговарајуће контролне гру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купљање података о изложености аген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тврђивање пропорција изложених особа у испитиваним груп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1T08:13:41Z</dcterms:created>
  <dc:creator> </dc:creator>
  <dc:description/>
  <dc:language>en-US</dc:language>
  <cp:lastModifiedBy> </cp:lastModifiedBy>
  <dcterms:modified xsi:type="dcterms:W3CDTF">2017-01-09T11:43:06Z</dcterms:modified>
  <cp:revision>7</cp:revision>
  <dc:subject/>
  <dc:title>Slide 1</dc:title>
</cp:coreProperties>
</file>